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03AE-42A6-4C98-9D41-AE31176D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FEC-B91E-4528-B7E9-14264E2B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04CD-C29E-4029-82A9-5BE777E5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591-F744-4AA3-9D5D-D22E3A89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7CE-0F92-4C28-8CAA-5F5C547E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618-15E4-4E65-AA67-60FD35D0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9B8-C6FF-4D2D-8FE6-FB931640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C99-8F24-41FE-AD0A-F0CC994F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E60-2DF9-432C-B6FC-C824B9B4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B6E-9C77-404A-ADF2-498995C1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702-6A97-4FC3-BA6F-3C0D9108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0A1-C7F5-4A7B-9732-115B8E0A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5073-7CD6-4961-B385-82D76C962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680160" y="3048120"/>
            <a:ext cx="1257480" cy="1619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6979" t="17956" r="11628" b="10219"/>
          <a:stretch/>
        </p:blipFill>
        <p:spPr>
          <a:xfrm>
            <a:off x="3390840" y="4952880"/>
            <a:ext cx="2362320" cy="1619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33720" y="762120"/>
            <a:ext cx="1380960" cy="971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8814" r="6656" b="2947"/>
          <a:stretch/>
        </p:blipFill>
        <p:spPr>
          <a:xfrm>
            <a:off x="762120" y="213372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63720" y="2666880"/>
            <a:ext cx="1238040" cy="743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146320" y="1752480"/>
            <a:ext cx="885960" cy="1333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62120" y="762120"/>
            <a:ext cx="1380960" cy="1380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324480" y="1905120"/>
            <a:ext cx="1619280" cy="1171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324480" y="685800"/>
            <a:ext cx="1619280" cy="125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952880" y="685800"/>
            <a:ext cx="1381320" cy="1380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0800000">
            <a:off x="3047760" y="2514240"/>
            <a:ext cx="2895480" cy="22096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98800" y="2844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00:19:48Z</dcterms:created>
  <dc:creator>Administrator</dc:creator>
  <dc:description/>
  <dc:language>en-US</dc:language>
  <cp:lastModifiedBy>Administrator</cp:lastModifiedBy>
  <dcterms:modified xsi:type="dcterms:W3CDTF">2008-05-03T01:45:09Z</dcterms:modified>
  <cp:revision>2</cp:revision>
  <dc:subject/>
  <dc:title>Slide 1</dc:title>
</cp:coreProperties>
</file>